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277A-8F52-4A7F-875F-90A56307B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cuss hierarchy, types specialised for particular kinds of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erInputStream reads from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ream, but provides extra function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voids explosion of subclasses: just combine a filter stream subclass with another class to get the desired function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F7A-B544-4ACF-8395-8BDCE7D3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488-B682-44DC-86F1-ED4D5DFD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0CA-2A92-483D-B4CB-7DD88DC0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2ED-41D8-45BB-A59E-90CF964A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F65-7339-4D86-829F-BB6FFD0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8B9-164E-493F-9404-78D971B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708-DE3B-4D10-B043-7269D47B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A69-181E-42A7-8E20-86644385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3E4-50E6-4C45-8561-C247D3DA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A1C-EA5F-41DB-B0D2-522963F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6A4-2323-4459-BB44-29CE7AA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A1E-9241-4E82-AA57-064F1D2F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6B88-01D6-4FB8-9745-4D83EE7F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ava 2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, Files, and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In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’ve omitted exception handling in the previous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most all methods on the I/O classes (including constructors) can throw an IOException or a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ways wrap I/O code in try…catch blocks to handl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In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putStream in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putStream inner = new FileInputStream(“c:\\temp\\myfile.txt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 = new BufferedInputStream(inn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process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catch (IOException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 in.close(); } catch (Exception e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Output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utputstreamclass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0322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Out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outputstream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928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In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attern for output i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pen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there’s data to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rite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se the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Out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tput in J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Stream out = new FileOutputStream(“c:\\temp\\myfile.tx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.writ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Out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tputStream ou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tputStream inner = new    FileOutputStream(“c:\\temp\\myfile.txt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t = new BufferedOutputStream(inn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write data to th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catch (IOException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 out.close(); } catch (Exception e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hat’s Not Al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put/OutputStream and sub-classes were part of Java 1.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 1.2 adds more classes specialised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ase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ream classes are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/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es for character I/O are called Readers and Wri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have specialised clas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upport foreig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character in the ASCII character set fits into a single by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at’s not enough for chinese, and other complex alphab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 more than a single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Java character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2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 handles text using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tional standard character set, containing characters for almost all know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 few imaginary ones! (Klingon, Elvish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ide the JVM all text is held as Uni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Text I/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byte != character for all languages, you have to turn bytes into chars using a Input/Output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 provides Readers and Writers to save you t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classes deal with streams of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/write single character or array of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there are classes specialised for particular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java.io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eams, Readers and Wri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ing with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ing with Interne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I/O – R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readerclassdiagram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598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I/O –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reader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75844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ader in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ader inner = new FileReader(“c:\\temp\\myfile.txt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 = new BufferedReader(inn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process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catch (IOException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 in.close(); } catch (Exception e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I/O – 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writerclassdiagram" descr=""/>
          <p:cNvPicPr/>
          <p:nvPr/>
        </p:nvPicPr>
        <p:blipFill>
          <a:blip r:embed="rId1"/>
          <a:stretch/>
        </p:blipFill>
        <p:spPr>
          <a:xfrm>
            <a:off x="2819520" y="2475000"/>
            <a:ext cx="27572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I/O –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writers" descr=""/>
          <p:cNvPicPr/>
          <p:nvPr/>
        </p:nvPicPr>
        <p:blipFill>
          <a:blip r:embed="rId1"/>
          <a:stretch/>
        </p:blipFill>
        <p:spPr>
          <a:xfrm>
            <a:off x="61920" y="1967040"/>
            <a:ext cx="90201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Wr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riter ou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riter inner = new FileWriter(“c:\\temp\\myfile.txt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t = new BufferedWriter(inn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write data to th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catch (IOException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y { out.close(); } catch (Exception e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ing the G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imes you need to bridge across the two hierac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InputStreamReader or OutputStream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putStream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s bytes from an InputStream, and turns them into characters using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tputStream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characters sent to the Writer into bytes written by the OutputStream, again using a character enco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le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 provides access to the file system through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java.io.Fi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s files and dir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s methods for working with files and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ing directories, listing directory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naming and deleting, checking permission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 whether the File corresponds to a directory or a file with isDirector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ll-featured, and intu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a look through the javad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ck 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RL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 to File is the java.net.URL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s access to information about website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useful is a means to open an InputStream to a remot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openStream()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s it very simple to retrieve files from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ow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lformedURLExcep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you provide an illegal internet address in its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bjec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URL p = new URL(“http://www.ldodds.com/lectures/person.ja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putStream inner = p.openStrea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ufferedInputStream in = new BufferedInputStream(inn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process the fil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.clos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atch (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I/O – Th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/O is based around the concept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quence of information (bytes) coming from a source, or going to a ‘sink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 stream reads/writes only a single byte, or an array of bytes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be platform-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eam concept is very gen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pplied to many different types of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, Network, Memory, Processe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I/O – The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ckage contains all of the I/O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 classes specialised for particular kinds of stream operations, e.g. fil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ding/writing single bytes is quite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it includes classes which provide extra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buffering, reading numbers and Strings (not bytes)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s in large inheritance hierarchy, with separate trees for input and output stream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-- InputSt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nputstreamclass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070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In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nputstream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5345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In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attern for I/O programming i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pen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there’s data to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cess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ose the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In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/O in Ja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putStream in = new FileInputStream(“c:\\temp\\myfile.tx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 b = in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EOF is signalled by read() returning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b != 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do something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 = in.rea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 I/O – Using Input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using buffering is more efficient, therefore we always nest our strea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putStream inner = new FileInputStream(“c:\\temp\\myfile.txt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putStream in = new BufferedInputStream(inn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t b = in.rea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EOF is signalled by read() returning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b !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do something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 = in.rea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6:04:31Z</dcterms:created>
  <dc:creator>Leigh Dodds</dc:creator>
  <dc:description/>
  <dc:language>en-US</dc:language>
  <cp:lastModifiedBy>Leigh Dodds</cp:lastModifiedBy>
  <dcterms:modified xsi:type="dcterms:W3CDTF">2002-11-21T14:40:53Z</dcterms:modified>
  <cp:revision>169</cp:revision>
  <dc:subject/>
  <dc:title>Introduction to Java 2 Programming</dc:title>
</cp:coreProperties>
</file>